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D14-E987-4E0D-8CDA-2F8861DD7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FB1-C3D2-40B6-8697-B5265B6C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1CD-B8F0-4CE2-B473-ACF9701D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555C-7275-4660-A8EE-D1E570E9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F338-1950-458F-BC83-81954936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ED6F-3A72-4EEA-9655-9D763DDA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F8BC-2D38-4EB4-963E-1A4449B7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B7DA-2387-4DA3-A536-60317692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855-B7C9-457B-BFB5-B1A9F32A9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79D-42AB-42ED-B6C8-A6037D74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075-A40E-4886-A776-F39AE76A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3BD4-9BAA-4613-ADD3-197E31B9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B822B-0156-4873-B4D4-BD941FC92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17080" cy="62391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95280" y="4640400"/>
            <a:ext cx="46814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13:21:48Z</dcterms:created>
  <dc:creator>HD14</dc:creator>
  <dc:description/>
  <dc:language>en-US</dc:language>
  <cp:lastModifiedBy>HD14</cp:lastModifiedBy>
  <dcterms:modified xsi:type="dcterms:W3CDTF">2005-12-21T13:26:23Z</dcterms:modified>
  <cp:revision>1</cp:revision>
  <dc:subject/>
  <dc:title>Diapositive 1</dc:title>
</cp:coreProperties>
</file>